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17B-E090-4BD5-97A9-F9D0C35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B40-97F0-488E-9A89-9DFA498B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8E5-7ADB-42E0-9D00-26FDCBD0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033-DC68-4A3A-A9F5-D366D4B8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4FEA8-2321-435D-A43E-44E1E8550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3B66F-FEC7-41E3-B868-0AAB11DB3A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19F3E-6670-4849-A26B-E2C6632738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1DEE5-9B31-4157-88D9-786B30278C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CDA90-2BF9-4907-BEB0-6F4F1F5D64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2834F-742D-414C-96D5-DDD38E5971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4B57A-1B3B-4CE1-A33A-A62AFD74E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D86-6D61-4EBF-9BCF-CFF6C395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CF121-4411-4480-B814-8E2DEDD25D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15005-3810-4950-B8B8-353ABA771E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7062-EACD-4D43-9DFE-E7A6B19D8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1106-E3E3-4C69-8056-FF580A70D8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8BD32-8DFA-4510-BBB4-784F5C3D2B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5BA-207E-40A8-9A4F-C2B08887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70E-6240-4177-ADAB-F931DBFE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7B5-5B6F-4B5F-B5A5-32FF0025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13A-7B07-4001-B99E-B41A165F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F30-0912-4E0D-838D-10A0C7F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729-BC33-4378-9A9C-5DA6207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EDD-E02E-457C-AF59-F06570D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AF0A-4C9E-4D7C-9829-0CBAD7D073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D092-90FA-401F-B105-F2AC59F38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2F8-9888-4CF4-B95A-D05090797D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359080" y="3159000"/>
            <a:ext cx="660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U.S. Economy: Private and Public Se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241880" y="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-Agen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disadvantage of corpo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ckholders are princip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cutives are ag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f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DB31036-6B7D-4EAD-8E1E-6837B981B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1" dur="1" fill="hold"/>
                                  <p:tgtEl>
                                    <p:spTgt spid="2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4920" y="1328400"/>
            <a:ext cx="7086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, state, and local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the government in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BF04F76-7996-440F-A488-9B6BBD52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1" dur="1" fill="hold"/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90360" y="1277640"/>
            <a:ext cx="7086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the leg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the laws we live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ain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poly and antitrust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stribute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er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inter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7C9060B-1A99-4BAE-A85A-9F2CF684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2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02960" y="1520640"/>
            <a:ext cx="7086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locating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fail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ative exter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exter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A81BFA5-E85E-419E-8E37-19110564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8" dur="1" fill="hold"/>
                                  <p:tgtEl>
                                    <p:spTgt spid="2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ing for Exter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17080" y="1252440"/>
            <a:ext cx="708660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ve extern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provision of goo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03EF14B-3A10-4A37-B51F-5E613B51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249200"/>
            <a:ext cx="708660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vate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val and excl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r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excl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-rider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si-public goo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lloc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2989A8D-A814-42CF-84C5-7133A326F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8" dur="1" fill="hold"/>
                                  <p:tgtEl>
                                    <p:spTgt spid="22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82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68200" y="1236600"/>
            <a:ext cx="7086600" cy="53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ng 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qual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 much or too little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fficienc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4F63617-27C6-469E-9A64-867D7949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4" dur="1" fill="hold"/>
                                  <p:tgtEl>
                                    <p:spTgt spid="2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977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rcular Flow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2039760" y="1393920"/>
            <a:ext cx="6640200" cy="4471560"/>
            <a:chOff x="2039760" y="1393920"/>
            <a:chExt cx="6640200" cy="4471560"/>
          </a:xfrm>
        </p:grpSpPr>
        <p:sp>
          <p:nvSpPr>
            <p:cNvPr id="231" name="AutoShape 6"/>
            <p:cNvSpPr/>
            <p:nvPr/>
          </p:nvSpPr>
          <p:spPr>
            <a:xfrm>
              <a:off x="2230200" y="1573200"/>
              <a:ext cx="6256440" cy="4119480"/>
            </a:xfrm>
            <a:prstGeom prst="roundRect">
              <a:avLst>
                <a:gd name="adj" fmla="val 16667"/>
              </a:avLst>
            </a:prstGeom>
            <a:noFill/>
            <a:ln w="228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"/>
            <p:cNvGrpSpPr/>
            <p:nvPr/>
          </p:nvGrpSpPr>
          <p:grpSpPr>
            <a:xfrm>
              <a:off x="4496760" y="1393920"/>
              <a:ext cx="360720" cy="358560"/>
              <a:chOff x="4496760" y="1393920"/>
              <a:chExt cx="360720" cy="358560"/>
            </a:xfrm>
          </p:grpSpPr>
          <p:sp>
            <p:nvSpPr>
              <p:cNvPr id="233" name="Rectangle 8"/>
              <p:cNvSpPr/>
              <p:nvPr/>
            </p:nvSpPr>
            <p:spPr>
              <a:xfrm>
                <a:off x="4506480" y="1398600"/>
                <a:ext cx="351000" cy="35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utoShape 9"/>
              <p:cNvSpPr/>
              <p:nvPr/>
            </p:nvSpPr>
            <p:spPr>
              <a:xfrm rot="5400000">
                <a:off x="4425120" y="146520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0"/>
            <p:cNvGrpSpPr/>
            <p:nvPr/>
          </p:nvGrpSpPr>
          <p:grpSpPr>
            <a:xfrm>
              <a:off x="2039760" y="4016160"/>
              <a:ext cx="369360" cy="311040"/>
              <a:chOff x="2039760" y="4016160"/>
              <a:chExt cx="369360" cy="311040"/>
            </a:xfrm>
          </p:grpSpPr>
          <p:sp>
            <p:nvSpPr>
              <p:cNvPr id="236" name="Rectangle 11"/>
              <p:cNvSpPr/>
              <p:nvPr/>
            </p:nvSpPr>
            <p:spPr>
              <a:xfrm>
                <a:off x="2039760" y="401616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12"/>
              <p:cNvSpPr/>
              <p:nvPr/>
            </p:nvSpPr>
            <p:spPr>
              <a:xfrm>
                <a:off x="2050560" y="411156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3"/>
            <p:cNvGrpSpPr/>
            <p:nvPr/>
          </p:nvGrpSpPr>
          <p:grpSpPr>
            <a:xfrm>
              <a:off x="8307360" y="2938320"/>
              <a:ext cx="372600" cy="304920"/>
              <a:chOff x="8307360" y="2938320"/>
              <a:chExt cx="372600" cy="304920"/>
            </a:xfrm>
          </p:grpSpPr>
          <p:sp>
            <p:nvSpPr>
              <p:cNvPr id="239" name="Rectangle 14"/>
              <p:cNvSpPr/>
              <p:nvPr/>
            </p:nvSpPr>
            <p:spPr>
              <a:xfrm>
                <a:off x="8329320" y="294480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15"/>
              <p:cNvSpPr/>
              <p:nvPr/>
            </p:nvSpPr>
            <p:spPr>
              <a:xfrm rot="10800000">
                <a:off x="8307360" y="293832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6"/>
            <p:cNvGrpSpPr/>
            <p:nvPr/>
          </p:nvGrpSpPr>
          <p:grpSpPr>
            <a:xfrm>
              <a:off x="5868720" y="5506920"/>
              <a:ext cx="357120" cy="358560"/>
              <a:chOff x="5868720" y="5506920"/>
              <a:chExt cx="357120" cy="358560"/>
            </a:xfrm>
          </p:grpSpPr>
          <p:sp>
            <p:nvSpPr>
              <p:cNvPr id="242" name="Rectangle 17"/>
              <p:cNvSpPr/>
              <p:nvPr/>
            </p:nvSpPr>
            <p:spPr>
              <a:xfrm>
                <a:off x="5868720" y="55558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18"/>
              <p:cNvSpPr/>
              <p:nvPr/>
            </p:nvSpPr>
            <p:spPr>
              <a:xfrm rot="16200000">
                <a:off x="5938560" y="557820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19"/>
          <p:cNvGrpSpPr/>
          <p:nvPr/>
        </p:nvGrpSpPr>
        <p:grpSpPr>
          <a:xfrm>
            <a:off x="2426760" y="1775880"/>
            <a:ext cx="5856480" cy="3799080"/>
            <a:chOff x="2426760" y="1775880"/>
            <a:chExt cx="5856480" cy="3799080"/>
          </a:xfrm>
        </p:grpSpPr>
        <p:sp>
          <p:nvSpPr>
            <p:cNvPr id="245" name="AutoShape 20"/>
            <p:cNvSpPr/>
            <p:nvPr/>
          </p:nvSpPr>
          <p:spPr>
            <a:xfrm>
              <a:off x="2604960" y="1905120"/>
              <a:ext cx="5506920" cy="3456000"/>
            </a:xfrm>
            <a:prstGeom prst="roundRect">
              <a:avLst>
                <a:gd name="adj" fmla="val 12361"/>
              </a:avLst>
            </a:prstGeom>
            <a:noFill/>
            <a:ln w="22860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21"/>
            <p:cNvGrpSpPr/>
            <p:nvPr/>
          </p:nvGrpSpPr>
          <p:grpSpPr>
            <a:xfrm>
              <a:off x="2426760" y="2974680"/>
              <a:ext cx="368640" cy="311040"/>
              <a:chOff x="2426760" y="2974680"/>
              <a:chExt cx="368640" cy="311040"/>
            </a:xfrm>
          </p:grpSpPr>
          <p:sp>
            <p:nvSpPr>
              <p:cNvPr id="247" name="Rectangle 22"/>
              <p:cNvSpPr/>
              <p:nvPr/>
            </p:nvSpPr>
            <p:spPr>
              <a:xfrm>
                <a:off x="2444400" y="2987640"/>
                <a:ext cx="351000" cy="29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23"/>
              <p:cNvSpPr/>
              <p:nvPr/>
            </p:nvSpPr>
            <p:spPr>
              <a:xfrm rot="10800000">
                <a:off x="2426760" y="2974680"/>
                <a:ext cx="35892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4"/>
            <p:cNvGrpSpPr/>
            <p:nvPr/>
          </p:nvGrpSpPr>
          <p:grpSpPr>
            <a:xfrm>
              <a:off x="7920000" y="4051440"/>
              <a:ext cx="363240" cy="309600"/>
              <a:chOff x="7920000" y="4051440"/>
              <a:chExt cx="363240" cy="309600"/>
            </a:xfrm>
          </p:grpSpPr>
          <p:sp>
            <p:nvSpPr>
              <p:cNvPr id="250" name="Rectangle 25"/>
              <p:cNvSpPr/>
              <p:nvPr/>
            </p:nvSpPr>
            <p:spPr>
              <a:xfrm>
                <a:off x="7920000" y="405144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26"/>
              <p:cNvSpPr/>
              <p:nvPr/>
            </p:nvSpPr>
            <p:spPr>
              <a:xfrm>
                <a:off x="7924680" y="4145040"/>
                <a:ext cx="35856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7"/>
            <p:cNvGrpSpPr/>
            <p:nvPr/>
          </p:nvGrpSpPr>
          <p:grpSpPr>
            <a:xfrm>
              <a:off x="5862600" y="1775880"/>
              <a:ext cx="360360" cy="358920"/>
              <a:chOff x="5862600" y="1775880"/>
              <a:chExt cx="360360" cy="358920"/>
            </a:xfrm>
          </p:grpSpPr>
          <p:sp>
            <p:nvSpPr>
              <p:cNvPr id="253" name="Rectangle 28"/>
              <p:cNvSpPr/>
              <p:nvPr/>
            </p:nvSpPr>
            <p:spPr>
              <a:xfrm>
                <a:off x="5862600" y="1781280"/>
                <a:ext cx="35100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29"/>
              <p:cNvSpPr/>
              <p:nvPr/>
            </p:nvSpPr>
            <p:spPr>
              <a:xfrm rot="16200000">
                <a:off x="5935320" y="1847160"/>
                <a:ext cx="358920" cy="21600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0"/>
            <p:cNvGrpSpPr/>
            <p:nvPr/>
          </p:nvGrpSpPr>
          <p:grpSpPr>
            <a:xfrm>
              <a:off x="4490640" y="5216400"/>
              <a:ext cx="355320" cy="358560"/>
              <a:chOff x="4490640" y="5216400"/>
              <a:chExt cx="355320" cy="358560"/>
            </a:xfrm>
          </p:grpSpPr>
          <p:sp>
            <p:nvSpPr>
              <p:cNvPr id="256" name="Rectangle 31"/>
              <p:cNvSpPr/>
              <p:nvPr/>
            </p:nvSpPr>
            <p:spPr>
              <a:xfrm>
                <a:off x="4495320" y="5263920"/>
                <a:ext cx="350640" cy="29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32"/>
              <p:cNvSpPr/>
              <p:nvPr/>
            </p:nvSpPr>
            <p:spPr>
              <a:xfrm rot="5400000">
                <a:off x="4419000" y="5287680"/>
                <a:ext cx="358560" cy="215640"/>
              </a:xfrm>
              <a:prstGeom prst="triangle">
                <a:avLst>
                  <a:gd name="adj" fmla="val 50000"/>
                </a:avLst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Rectangle 33"/>
          <p:cNvSpPr/>
          <p:nvPr/>
        </p:nvSpPr>
        <p:spPr>
          <a:xfrm>
            <a:off x="4711680" y="1285920"/>
            <a:ext cx="1293840" cy="966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4711680" y="5079960"/>
            <a:ext cx="1293840" cy="966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1704960" y="3187800"/>
            <a:ext cx="1293840" cy="966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7540560" y="3187800"/>
            <a:ext cx="1335240" cy="966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7"/>
          <p:cNvSpPr txBox="1"/>
          <p:nvPr/>
        </p:nvSpPr>
        <p:spPr>
          <a:xfrm rot="19236000">
            <a:off x="2023920" y="1569600"/>
            <a:ext cx="824040" cy="2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3" name="WordArt 38"/>
          <p:cNvSpPr txBox="1"/>
          <p:nvPr/>
        </p:nvSpPr>
        <p:spPr>
          <a:xfrm rot="1800000">
            <a:off x="7167600" y="1485720"/>
            <a:ext cx="1790640" cy="72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ney 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4" name="WordArt 39"/>
          <p:cNvSpPr txBox="1"/>
          <p:nvPr/>
        </p:nvSpPr>
        <p:spPr>
          <a:xfrm rot="2216400">
            <a:off x="6555960" y="2263680"/>
            <a:ext cx="1414440" cy="9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543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put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5" name="WordArt 40"/>
          <p:cNvSpPr txBox="1"/>
          <p:nvPr/>
        </p:nvSpPr>
        <p:spPr>
          <a:xfrm rot="19236000">
            <a:off x="2771280" y="2319120"/>
            <a:ext cx="887400" cy="3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82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41"/>
          <p:cNvSpPr txBox="1"/>
          <p:nvPr/>
        </p:nvSpPr>
        <p:spPr>
          <a:xfrm rot="1800000">
            <a:off x="2690280" y="4536720"/>
            <a:ext cx="14479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7" name="WordArt 42"/>
          <p:cNvSpPr txBox="1"/>
          <p:nvPr/>
        </p:nvSpPr>
        <p:spPr>
          <a:xfrm rot="1800000">
            <a:off x="1923840" y="5637240"/>
            <a:ext cx="1274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ven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43"/>
          <p:cNvSpPr txBox="1"/>
          <p:nvPr/>
        </p:nvSpPr>
        <p:spPr>
          <a:xfrm rot="19921200">
            <a:off x="6546960" y="4525560"/>
            <a:ext cx="14475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s &amp; Servi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9" name="WordArt 44"/>
          <p:cNvSpPr txBox="1"/>
          <p:nvPr/>
        </p:nvSpPr>
        <p:spPr>
          <a:xfrm rot="19921200">
            <a:off x="7419960" y="5589720"/>
            <a:ext cx="144792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sum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4653000" y="3187800"/>
            <a:ext cx="1427040" cy="966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6"/>
          <p:cNvSpPr/>
          <p:nvPr/>
        </p:nvSpPr>
        <p:spPr>
          <a:xfrm>
            <a:off x="3017880" y="3747960"/>
            <a:ext cx="1606680" cy="370080"/>
          </a:xfrm>
          <a:prstGeom prst="rightArrow">
            <a:avLst>
              <a:gd name="adj1" fmla="val 65667"/>
              <a:gd name="adj2" fmla="val 63574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7"/>
          <p:cNvSpPr/>
          <p:nvPr/>
        </p:nvSpPr>
        <p:spPr>
          <a:xfrm flipH="1">
            <a:off x="6103800" y="3747960"/>
            <a:ext cx="1416240" cy="370080"/>
          </a:xfrm>
          <a:prstGeom prst="rightArrow">
            <a:avLst>
              <a:gd name="adj1" fmla="val 65667"/>
              <a:gd name="adj2" fmla="val 56038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8"/>
          <p:cNvSpPr/>
          <p:nvPr/>
        </p:nvSpPr>
        <p:spPr>
          <a:xfrm flipH="1">
            <a:off x="3025080" y="3233880"/>
            <a:ext cx="1600200" cy="369720"/>
          </a:xfrm>
          <a:prstGeom prst="rightArrow">
            <a:avLst>
              <a:gd name="adj1" fmla="val 65667"/>
              <a:gd name="adj2" fmla="val 63379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9"/>
          <p:cNvSpPr/>
          <p:nvPr/>
        </p:nvSpPr>
        <p:spPr>
          <a:xfrm>
            <a:off x="6102360" y="3233880"/>
            <a:ext cx="1406520" cy="369720"/>
          </a:xfrm>
          <a:prstGeom prst="rightArrow">
            <a:avLst>
              <a:gd name="adj1" fmla="val 65667"/>
              <a:gd name="adj2" fmla="val 55708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0"/>
          <p:cNvSpPr/>
          <p:nvPr/>
        </p:nvSpPr>
        <p:spPr>
          <a:xfrm rot="16200000">
            <a:off x="4708440" y="2530440"/>
            <a:ext cx="881280" cy="370080"/>
          </a:xfrm>
          <a:prstGeom prst="rightArrow">
            <a:avLst>
              <a:gd name="adj1" fmla="val 65667"/>
              <a:gd name="adj2" fmla="val 34871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1"/>
          <p:cNvSpPr/>
          <p:nvPr/>
        </p:nvSpPr>
        <p:spPr>
          <a:xfrm flipV="1" rot="5400000">
            <a:off x="4713120" y="4429440"/>
            <a:ext cx="871560" cy="370080"/>
          </a:xfrm>
          <a:prstGeom prst="rightArrow">
            <a:avLst>
              <a:gd name="adj1" fmla="val 65667"/>
              <a:gd name="adj2" fmla="val 34486"/>
            </a:avLst>
          </a:prstGeom>
          <a:solidFill>
            <a:srgbClr val="660033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2"/>
          <p:cNvSpPr/>
          <p:nvPr/>
        </p:nvSpPr>
        <p:spPr>
          <a:xfrm rot="16200000">
            <a:off x="5177520" y="4426200"/>
            <a:ext cx="873000" cy="370080"/>
          </a:xfrm>
          <a:prstGeom prst="rightArrow">
            <a:avLst>
              <a:gd name="adj1" fmla="val 65667"/>
              <a:gd name="adj2" fmla="val 34543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3"/>
          <p:cNvSpPr/>
          <p:nvPr/>
        </p:nvSpPr>
        <p:spPr>
          <a:xfrm flipV="1" rot="5400000">
            <a:off x="5173560" y="2535120"/>
            <a:ext cx="881280" cy="370080"/>
          </a:xfrm>
          <a:prstGeom prst="rightArrow">
            <a:avLst>
              <a:gd name="adj1" fmla="val 65667"/>
              <a:gd name="adj2" fmla="val 34871"/>
            </a:avLst>
          </a:prstGeom>
          <a:solidFill>
            <a:srgbClr val="669900"/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3297600" y="2867040"/>
            <a:ext cx="107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Good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6"/>
          <p:cNvSpPr/>
          <p:nvPr/>
        </p:nvSpPr>
        <p:spPr>
          <a:xfrm>
            <a:off x="6269400" y="2867040"/>
            <a:ext cx="107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Good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3264840" y="4048200"/>
            <a:ext cx="113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e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6236640" y="4048200"/>
            <a:ext cx="113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e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9"/>
          <p:cNvSpPr/>
          <p:nvPr/>
        </p:nvSpPr>
        <p:spPr>
          <a:xfrm>
            <a:off x="3608280" y="2484360"/>
            <a:ext cx="1463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0"/>
          <p:cNvSpPr/>
          <p:nvPr/>
        </p:nvSpPr>
        <p:spPr>
          <a:xfrm>
            <a:off x="3608280" y="4446720"/>
            <a:ext cx="1463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5669280" y="4390920"/>
            <a:ext cx="1072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Good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2"/>
          <p:cNvSpPr/>
          <p:nvPr/>
        </p:nvSpPr>
        <p:spPr>
          <a:xfrm>
            <a:off x="5745240" y="248436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6FADCB0-B8B6-4623-BB14-C489B00D8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F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88480" y="1139400"/>
            <a:ext cx="70866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purc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 transf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992320" y="2092320"/>
            <a:ext cx="4791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 rot="16200000">
            <a:off x="1479600" y="392616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of U.S.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054320" y="6195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6935760" y="6195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873600" y="3678120"/>
            <a:ext cx="995400" cy="244476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750000" y="4064040"/>
            <a:ext cx="995400" cy="20588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6750000" y="2800440"/>
            <a:ext cx="995400" cy="126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3873600" y="3254400"/>
            <a:ext cx="99540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027760" y="522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46840" y="2322360"/>
            <a:ext cx="15264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3"/>
          <p:cNvGrpSpPr/>
          <p:nvPr/>
        </p:nvGrpSpPr>
        <p:grpSpPr>
          <a:xfrm>
            <a:off x="4861080" y="4807080"/>
            <a:ext cx="1879560" cy="411120"/>
            <a:chOff x="4861080" y="4807080"/>
            <a:chExt cx="1879560" cy="411120"/>
          </a:xfrm>
        </p:grpSpPr>
        <p:sp>
          <p:nvSpPr>
            <p:cNvPr id="301" name="Line 18"/>
            <p:cNvSpPr/>
            <p:nvPr/>
          </p:nvSpPr>
          <p:spPr>
            <a:xfrm flipV="1">
              <a:off x="5784840" y="4807080"/>
              <a:ext cx="95580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9"/>
            <p:cNvSpPr/>
            <p:nvPr/>
          </p:nvSpPr>
          <p:spPr>
            <a:xfrm flipH="1" flipV="1">
              <a:off x="4861080" y="4807080"/>
              <a:ext cx="95544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22"/>
          <p:cNvGrpSpPr/>
          <p:nvPr/>
        </p:nvGrpSpPr>
        <p:grpSpPr>
          <a:xfrm>
            <a:off x="4870080" y="3111480"/>
            <a:ext cx="1879920" cy="411120"/>
            <a:chOff x="4870080" y="3111480"/>
            <a:chExt cx="1879920" cy="411120"/>
          </a:xfrm>
        </p:grpSpPr>
        <p:sp>
          <p:nvSpPr>
            <p:cNvPr id="304" name="Line 20"/>
            <p:cNvSpPr/>
            <p:nvPr/>
          </p:nvSpPr>
          <p:spPr>
            <a:xfrm>
              <a:off x="5794200" y="3111480"/>
              <a:ext cx="95580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1"/>
            <p:cNvSpPr/>
            <p:nvPr/>
          </p:nvSpPr>
          <p:spPr>
            <a:xfrm flipH="1">
              <a:off x="4870080" y="3111480"/>
              <a:ext cx="95580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24"/>
          <p:cNvSpPr/>
          <p:nvPr/>
        </p:nvSpPr>
        <p:spPr>
          <a:xfrm>
            <a:off x="4042440" y="4727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134600" y="3279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6936480" y="481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977160" y="32036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4077360" y="2870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6993000" y="2448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72295B8-3772-445E-B889-382F30D3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30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Re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1422360" y="2577960"/>
            <a:ext cx="220968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4273560" y="23004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4641480" y="6386400"/>
            <a:ext cx="42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Organization for Economic Coopera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6"/>
          <p:cNvSpPr/>
          <p:nvPr/>
        </p:nvSpPr>
        <p:spPr>
          <a:xfrm>
            <a:off x="3630600" y="2692440"/>
            <a:ext cx="4942080" cy="22860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3630600" y="2978280"/>
            <a:ext cx="4802040" cy="2095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8"/>
          <p:cNvSpPr/>
          <p:nvPr/>
        </p:nvSpPr>
        <p:spPr>
          <a:xfrm>
            <a:off x="3630600" y="3263760"/>
            <a:ext cx="4611600" cy="2160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9"/>
          <p:cNvSpPr/>
          <p:nvPr/>
        </p:nvSpPr>
        <p:spPr>
          <a:xfrm>
            <a:off x="3630600" y="3549600"/>
            <a:ext cx="4624560" cy="20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0"/>
          <p:cNvSpPr/>
          <p:nvPr/>
        </p:nvSpPr>
        <p:spPr>
          <a:xfrm>
            <a:off x="3630600" y="3835440"/>
            <a:ext cx="4294080" cy="21600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1"/>
          <p:cNvSpPr/>
          <p:nvPr/>
        </p:nvSpPr>
        <p:spPr>
          <a:xfrm>
            <a:off x="3630600" y="4121280"/>
            <a:ext cx="4025880" cy="215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2"/>
          <p:cNvSpPr/>
          <p:nvPr/>
        </p:nvSpPr>
        <p:spPr>
          <a:xfrm>
            <a:off x="3630600" y="4406760"/>
            <a:ext cx="39639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3"/>
          <p:cNvSpPr/>
          <p:nvPr/>
        </p:nvSpPr>
        <p:spPr>
          <a:xfrm>
            <a:off x="3630600" y="4692600"/>
            <a:ext cx="3633840" cy="23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4"/>
          <p:cNvSpPr/>
          <p:nvPr/>
        </p:nvSpPr>
        <p:spPr>
          <a:xfrm>
            <a:off x="3630600" y="4978440"/>
            <a:ext cx="3252960" cy="241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5"/>
          <p:cNvSpPr/>
          <p:nvPr/>
        </p:nvSpPr>
        <p:spPr>
          <a:xfrm>
            <a:off x="3630600" y="5264280"/>
            <a:ext cx="311328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6"/>
          <p:cNvSpPr/>
          <p:nvPr/>
        </p:nvSpPr>
        <p:spPr>
          <a:xfrm>
            <a:off x="3630600" y="5549760"/>
            <a:ext cx="294804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7"/>
          <p:cNvSpPr/>
          <p:nvPr/>
        </p:nvSpPr>
        <p:spPr>
          <a:xfrm>
            <a:off x="3630600" y="5835600"/>
            <a:ext cx="2859120" cy="2350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55"/>
          <p:cNvGrpSpPr/>
          <p:nvPr/>
        </p:nvGrpSpPr>
        <p:grpSpPr>
          <a:xfrm>
            <a:off x="3606840" y="2610000"/>
            <a:ext cx="5219640" cy="3740040"/>
            <a:chOff x="3606840" y="2610000"/>
            <a:chExt cx="5219640" cy="3740040"/>
          </a:xfrm>
        </p:grpSpPr>
        <p:grpSp>
          <p:nvGrpSpPr>
            <p:cNvPr id="330" name="Group 47"/>
            <p:cNvGrpSpPr/>
            <p:nvPr/>
          </p:nvGrpSpPr>
          <p:grpSpPr>
            <a:xfrm>
              <a:off x="4498920" y="2610000"/>
              <a:ext cx="3657600" cy="3740040"/>
              <a:chOff x="4498920" y="2610000"/>
              <a:chExt cx="3657600" cy="3740040"/>
            </a:xfrm>
          </p:grpSpPr>
          <p:sp>
            <p:nvSpPr>
              <p:cNvPr id="331" name="Line 42"/>
              <p:cNvSpPr/>
              <p:nvPr/>
            </p:nvSpPr>
            <p:spPr>
              <a:xfrm>
                <a:off x="44989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3"/>
              <p:cNvSpPr/>
              <p:nvPr/>
            </p:nvSpPr>
            <p:spPr>
              <a:xfrm>
                <a:off x="54133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44"/>
              <p:cNvSpPr/>
              <p:nvPr/>
            </p:nvSpPr>
            <p:spPr>
              <a:xfrm>
                <a:off x="63277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45"/>
              <p:cNvSpPr/>
              <p:nvPr/>
            </p:nvSpPr>
            <p:spPr>
              <a:xfrm>
                <a:off x="72421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46"/>
              <p:cNvSpPr/>
              <p:nvPr/>
            </p:nvSpPr>
            <p:spPr>
              <a:xfrm>
                <a:off x="8156520" y="2610000"/>
                <a:ext cx="0" cy="37400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Line 49"/>
            <p:cNvSpPr/>
            <p:nvPr/>
          </p:nvSpPr>
          <p:spPr>
            <a:xfrm>
              <a:off x="3622680" y="2610000"/>
              <a:ext cx="0" cy="374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54"/>
            <p:cNvSpPr/>
            <p:nvPr/>
          </p:nvSpPr>
          <p:spPr>
            <a:xfrm>
              <a:off x="3606840" y="2611440"/>
              <a:ext cx="521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69"/>
          <p:cNvSpPr/>
          <p:nvPr/>
        </p:nvSpPr>
        <p:spPr>
          <a:xfrm>
            <a:off x="8519040" y="261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8417520" y="2879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1"/>
          <p:cNvSpPr/>
          <p:nvPr/>
        </p:nvSpPr>
        <p:spPr>
          <a:xfrm>
            <a:off x="8290440" y="321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2"/>
          <p:cNvSpPr/>
          <p:nvPr/>
        </p:nvSpPr>
        <p:spPr>
          <a:xfrm>
            <a:off x="8315640" y="3489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3"/>
          <p:cNvSpPr/>
          <p:nvPr/>
        </p:nvSpPr>
        <p:spPr>
          <a:xfrm>
            <a:off x="7957080" y="377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4"/>
          <p:cNvSpPr/>
          <p:nvPr/>
        </p:nvSpPr>
        <p:spPr>
          <a:xfrm>
            <a:off x="7628400" y="4060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5"/>
          <p:cNvSpPr/>
          <p:nvPr/>
        </p:nvSpPr>
        <p:spPr>
          <a:xfrm>
            <a:off x="7644240" y="43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6"/>
          <p:cNvSpPr/>
          <p:nvPr/>
        </p:nvSpPr>
        <p:spPr>
          <a:xfrm>
            <a:off x="7285320" y="4606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7"/>
          <p:cNvSpPr/>
          <p:nvPr/>
        </p:nvSpPr>
        <p:spPr>
          <a:xfrm>
            <a:off x="6864840" y="493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8"/>
          <p:cNvSpPr/>
          <p:nvPr/>
        </p:nvSpPr>
        <p:spPr>
          <a:xfrm>
            <a:off x="6741000" y="5203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9"/>
          <p:cNvSpPr/>
          <p:nvPr/>
        </p:nvSpPr>
        <p:spPr>
          <a:xfrm>
            <a:off x="6613920" y="5489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0"/>
          <p:cNvSpPr/>
          <p:nvPr/>
        </p:nvSpPr>
        <p:spPr>
          <a:xfrm>
            <a:off x="6625080" y="5788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1"/>
          <p:cNvSpPr/>
          <p:nvPr/>
        </p:nvSpPr>
        <p:spPr>
          <a:xfrm>
            <a:off x="1168560" y="158760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Tax Revenue, Approximate Percentage of GDP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0"/>
          <p:cNvSpPr/>
          <p:nvPr/>
        </p:nvSpPr>
        <p:spPr>
          <a:xfrm>
            <a:off x="689616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57566773-D274-4EA1-BA0E-D18026F2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9600" y="1317240"/>
            <a:ext cx="8001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 household and  business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rporate form of business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 agent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conomic role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spending and sources of reven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7D4B502-153B-4FD4-9478-C2B0ED59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Expendi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896280" y="165564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658880" y="2190600"/>
            <a:ext cx="233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sions &a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714760" y="3298680"/>
            <a:ext cx="128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2963520" y="4595760"/>
            <a:ext cx="103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90360" y="5543640"/>
            <a:ext cx="21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est on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42360" y="6386400"/>
            <a:ext cx="31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U. S. Office of Management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4014720" y="2119320"/>
            <a:ext cx="3355920" cy="880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4014720" y="3249720"/>
            <a:ext cx="2006640" cy="880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4014720" y="4379760"/>
            <a:ext cx="2454480" cy="881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4014720" y="5484960"/>
            <a:ext cx="858960" cy="880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7420320" y="22575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6050520" y="3398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6518520" y="45403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4920120" y="5614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3"/>
          <p:cNvGrpSpPr/>
          <p:nvPr/>
        </p:nvGrpSpPr>
        <p:grpSpPr>
          <a:xfrm>
            <a:off x="3992400" y="2006640"/>
            <a:ext cx="4770720" cy="4460760"/>
            <a:chOff x="3992400" y="2006640"/>
            <a:chExt cx="4770720" cy="4460760"/>
          </a:xfrm>
        </p:grpSpPr>
        <p:sp>
          <p:nvSpPr>
            <p:cNvPr id="368" name="Line 21"/>
            <p:cNvSpPr/>
            <p:nvPr/>
          </p:nvSpPr>
          <p:spPr>
            <a:xfrm>
              <a:off x="3992400" y="2017800"/>
              <a:ext cx="47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4003560" y="2006640"/>
              <a:ext cx="0" cy="446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24"/>
          <p:cNvSpPr/>
          <p:nvPr/>
        </p:nvSpPr>
        <p:spPr>
          <a:xfrm>
            <a:off x="1022760" y="1220760"/>
            <a:ext cx="77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age of total expenditure ($2,731 billion)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6953400" y="65721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25EE737-ADEE-4A77-A731-2610BA02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Tax Reven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3896280" y="165564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2279520" y="209088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879280" y="2998800"/>
            <a:ext cx="111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968120" y="3895560"/>
            <a:ext cx="20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2932200" y="4776840"/>
            <a:ext cx="106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742360" y="6386400"/>
            <a:ext cx="31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U. S. Office of Management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014720" y="2119320"/>
            <a:ext cx="408168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14720" y="3027240"/>
            <a:ext cx="354492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014720" y="3935520"/>
            <a:ext cx="146052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4014720" y="4807080"/>
            <a:ext cx="40176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8096760" y="2206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7593480" y="3114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4420080" y="49118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4561200" y="577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8"/>
          <p:cNvGrpSpPr/>
          <p:nvPr/>
        </p:nvGrpSpPr>
        <p:grpSpPr>
          <a:xfrm>
            <a:off x="3992400" y="2006640"/>
            <a:ext cx="4770720" cy="4460760"/>
            <a:chOff x="3992400" y="2006640"/>
            <a:chExt cx="4770720" cy="4460760"/>
          </a:xfrm>
        </p:grpSpPr>
        <p:sp>
          <p:nvSpPr>
            <p:cNvPr id="388" name="Line 19"/>
            <p:cNvSpPr/>
            <p:nvPr/>
          </p:nvSpPr>
          <p:spPr>
            <a:xfrm>
              <a:off x="3992400" y="2017800"/>
              <a:ext cx="47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4003560" y="2006640"/>
              <a:ext cx="0" cy="446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21"/>
          <p:cNvSpPr/>
          <p:nvPr/>
        </p:nvSpPr>
        <p:spPr>
          <a:xfrm>
            <a:off x="4022640" y="5681520"/>
            <a:ext cx="557280" cy="70164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063600" y="5651640"/>
            <a:ext cx="9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5512320" y="40114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4"/>
          <p:cNvSpPr/>
          <p:nvPr/>
        </p:nvSpPr>
        <p:spPr>
          <a:xfrm>
            <a:off x="1236960" y="123336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s of total tax revenue ($2,568 billion)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4"/>
          <p:cNvSpPr/>
          <p:nvPr/>
        </p:nvSpPr>
        <p:spPr>
          <a:xfrm>
            <a:off x="6915240" y="655308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922D4B6-5428-4CB0-B308-99744205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0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Income 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143000" y="1409400"/>
            <a:ext cx="7734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essive tax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ckets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tax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tax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D4BD2C7-4E47-424D-9515-8650128D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5" dur="1" fill="hold"/>
                                  <p:tgtEl>
                                    <p:spTgt spid="3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in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98720" y="1265400"/>
            <a:ext cx="804528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&amp; Excise Taxes (47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 Income Taxes (3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e Income Tax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 License Fees (1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B2DF020-C11A-4316-8DEC-F0752131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1229" dur="1" fill="hold"/>
                                  <p:tgtEl>
                                    <p:spTgt spid="3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Fin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12480" y="1239480"/>
            <a:ext cx="7086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Expendi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(36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Welfare (2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&amp; Hospitals (7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ways (7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Safety (4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(1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A6F0AC4-356B-4E6D-A17D-4920F63A4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5" dur="1" fill="hold"/>
                                  <p:tgtEl>
                                    <p:spTgt spid="4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 Fin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20240" y="1285560"/>
            <a:ext cx="81234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rty Taxes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7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es &amp; Excise Tax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Expendi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fare, Health &amp; Hospitals 1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Safety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ing, Parks, &amp; Sewer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eets &amp; Highway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B22A5B8-6293-4A0C-941F-8AA866C5A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0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indefinite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1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2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2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8" dur="2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0" dur="2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2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20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ng Social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39600" y="1314360"/>
            <a:ext cx="80010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graphic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run shortfall in f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-as-you-go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st fund withdraw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st fund exhausted in 20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 reducti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x revenue incre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B29D56F-51A1-43F0-88AC-530135ED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0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4" dur="1" fill="hold"/>
                                  <p:tgtEl>
                                    <p:spTgt spid="4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ng Social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41120" y="1409400"/>
            <a:ext cx="708660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ck &amp; bond inves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roll tax 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ly directed accou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tely owned and managed account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nsus diffic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F94976C4-CB39-4371-BEFB-3B8115717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0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5" dur="1" fill="hold"/>
                                  <p:tgtEl>
                                    <p:spTgt spid="4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1725480" y="781200"/>
            <a:ext cx="710892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28720" y="1250640"/>
            <a:ext cx="45561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distribution of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distribution of in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bl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durabl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-agent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66880" y="1276200"/>
            <a:ext cx="37767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o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xter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xter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-rider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si-public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purc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er pay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ginal tax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 tax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income t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es and excise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D220D343-B51A-4168-843D-BE63BAAC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0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011320" y="2103480"/>
            <a:ext cx="598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in the Global 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35F2F5F7-E812-4F44-98C6-9F83E1F7F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0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312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hold Inc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9600" y="1533240"/>
            <a:ext cx="79498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distribution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ge, rent, interest, pro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distribution of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sion among households by quint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83DDF15F-9417-4387-B18F-1D59D0D6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82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istribution of Income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287880" y="2349360"/>
            <a:ext cx="542448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137680" y="2424240"/>
            <a:ext cx="10936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ge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313000" y="340524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228040" y="4262400"/>
            <a:ext cx="912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024280" y="5024520"/>
            <a:ext cx="1329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rieto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2110320" y="5900760"/>
            <a:ext cx="1148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 rot="16200000">
            <a:off x="124920" y="39477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ome By Function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287880" y="3216240"/>
            <a:ext cx="11412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287880" y="4083120"/>
            <a:ext cx="34920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3287880" y="4950000"/>
            <a:ext cx="666720" cy="637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287880" y="5816520"/>
            <a:ext cx="104760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765600" y="16765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ational Income Received (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112560" y="1916280"/>
            <a:ext cx="56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  10        20        30        40        50        60   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3314520" y="24130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3400560" y="3289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724560" y="4146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048560" y="5013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4419360" y="58705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3144960" y="2260440"/>
            <a:ext cx="55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6438600" y="637704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Bureau of Economi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877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4B477A48-130E-49F6-B621-86619408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3082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Distribution of Income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87880" y="2349360"/>
            <a:ext cx="28548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304720" y="2405160"/>
            <a:ext cx="968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286000" y="3271680"/>
            <a:ext cx="1006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336040" y="4138560"/>
            <a:ext cx="906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336040" y="5005440"/>
            <a:ext cx="906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279880" y="5872320"/>
            <a:ext cx="101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 rot="16200000">
            <a:off x="395280" y="40017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ome Group (Househol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3287880" y="3216240"/>
            <a:ext cx="57456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3287880" y="4083120"/>
            <a:ext cx="117144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3287880" y="4950000"/>
            <a:ext cx="1941480" cy="63792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3287880" y="5816520"/>
            <a:ext cx="4140000" cy="6382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632760" y="167652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onal Income Received (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121920" y="1916280"/>
            <a:ext cx="52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   10         20         30         40         50      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657960" y="24130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3909600" y="32893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4501080" y="41464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5301000" y="5003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7406280" y="58705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>
            <a:off x="3144960" y="2260440"/>
            <a:ext cx="516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942600" y="639612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Bureau of the C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6896160" y="65721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CB4A4A7-221E-4A68-A5B5-7F800CD5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holds as S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s of household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taxes (13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saving (1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consumption (86%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rables (11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durables (29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 (6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C4D3B9E-CE75-4CE2-8882-0F6B78801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1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siness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44160" y="138420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ant fi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tically integ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lome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8CA33A5-F6A1-4D5A-B1E1-D0E78986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17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Outp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461320" y="61326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age of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710320" y="613260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age of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598840" y="3228840"/>
            <a:ext cx="2198520" cy="61776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598840" y="3848040"/>
            <a:ext cx="2198520" cy="39060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598840" y="4233960"/>
            <a:ext cx="2198520" cy="182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684760" y="3228840"/>
            <a:ext cx="2198880" cy="20653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684760" y="5295960"/>
            <a:ext cx="2198880" cy="461880"/>
          </a:xfrm>
          <a:prstGeom prst="rect">
            <a:avLst/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684760" y="5754600"/>
            <a:ext cx="2198880" cy="308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5739840" y="573732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e Proprieto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6139440" y="5365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111360" y="403236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p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633400" y="494496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e Proprieto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008880" y="38718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ner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2936520" y="336060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p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1959840" y="49449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2086560" y="3887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959840" y="3325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7982640" y="573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7855560" y="5335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7855560" y="4011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6962400" y="637704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U. S. Census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5"/>
          <p:cNvSpPr/>
          <p:nvPr/>
        </p:nvSpPr>
        <p:spPr>
          <a:xfrm>
            <a:off x="1117440" y="1219320"/>
            <a:ext cx="5448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915240" y="65721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CD0EE21-B96A-48AD-AB54-ABD0C19E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Corp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06000" y="1386000"/>
            <a:ext cx="7086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ring of specia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limited life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71B0F3E-8407-4360-BE6F-CD3CCF4F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0" dur="1" fill="hold"/>
                                  <p:tgtEl>
                                    <p:spTgt spid="2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9:33:27Z</dcterms:created>
  <dc:creator>C. Norman Hollingsworth</dc:creator>
  <dc:description/>
  <dc:language>en-US</dc:language>
  <cp:lastModifiedBy>test</cp:lastModifiedBy>
  <dcterms:modified xsi:type="dcterms:W3CDTF">2012-11-07T14:58:02Z</dcterms:modified>
  <cp:revision>181</cp:revision>
  <dc:subject>McConnell-Brue Economics</dc:subject>
  <dc:title>Chapter 4</dc:title>
</cp:coreProperties>
</file>